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11A-605A-4FCA-A1A5-E66FF3E8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B03-1E59-48FB-A387-162266FA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116-7EC0-4C09-BC6E-CA6E622F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BC6-970B-4737-8B8C-2A003593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67A-0902-4956-B66D-E9B52B51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B69-C829-4F55-85D4-5D45348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89C-94DB-43F3-B00F-471A11D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CC3-88CB-4504-9246-B4F77AE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9D1-A2D0-414C-93CE-2C71A8C6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5E9-2155-49A6-9B22-B3A5CE7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5D0-25B5-479A-A5A9-A5F827F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A3F-A77B-4D2C-9846-F29324C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1D5-E1B4-42A6-9798-C49D438AE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03360" y="1914480"/>
            <a:ext cx="79311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г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руг вокруг сол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тическое явление в атмосфере, возникающее из-за преломления и отраже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ой бывает зар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рас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ранж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ел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ноцвет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43732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2" descr=""/>
          <p:cNvPicPr/>
          <p:nvPr/>
        </p:nvPicPr>
        <p:blipFill>
          <a:blip r:embed="rId3"/>
          <a:stretch/>
        </p:blipFill>
        <p:spPr>
          <a:xfrm>
            <a:off x="311040" y="1511280"/>
            <a:ext cx="8382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Заголовок 1"/>
          <p:cNvGrpSpPr/>
          <p:nvPr/>
        </p:nvGrpSpPr>
        <p:grpSpPr>
          <a:xfrm>
            <a:off x="1139760" y="92160"/>
            <a:ext cx="6931080" cy="1498680"/>
            <a:chOff x="1139760" y="92160"/>
            <a:chExt cx="6931080" cy="1498680"/>
          </a:xfrm>
        </p:grpSpPr>
        <p:pic>
          <p:nvPicPr>
            <p:cNvPr id="4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139760" y="92160"/>
              <a:ext cx="6931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8840" y="357120"/>
              <a:ext cx="6357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omic Sans MS"/>
                </a:rPr>
                <a:t>Детские вопрос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С самого детства нас тревожит множество вопросов: «Где живет солнышко?», «Где заканчивается небо?», «Откуда растет радуга?» ,«Почему небо голубое?» и многие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Физика при помощи казалось бы ненужных теорий и законов способна дать ответ на все эти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Рассматривая явления солнечного света, мы попытаемся ответить на некоторые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676440" y="1566720"/>
            <a:ext cx="835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92160" y="79200"/>
            <a:ext cx="8820000" cy="1536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2" descr=""/>
          <p:cNvPicPr/>
          <p:nvPr/>
        </p:nvPicPr>
        <p:blipFill>
          <a:blip r:embed="rId3"/>
          <a:stretch/>
        </p:blipFill>
        <p:spPr>
          <a:xfrm>
            <a:off x="353880" y="1689120"/>
            <a:ext cx="84726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атмосферная опт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явлениях, происходящих в атмосф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природе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небе и небесных я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значит для нас Солнц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лнце – это главный источник энергии, тепла и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Солнца Земля была бы темной и холодной плане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Солнца не было бы жизни на Зем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небесный св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ый небесный ку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асть неба, кажущаяся приплюснутым полушаром голубого ц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му небо голуб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прохождения лучей Солнца через обл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собственного цвета составных частей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рассея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му небо голуб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прохождения лучей Солнца через обл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собственного цвета составных частей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рассея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0</cp:lastModifiedBy>
  <dcterms:modified xsi:type="dcterms:W3CDTF">2010-05-26T10:38:43Z</dcterms:modified>
  <cp:revision>21</cp:revision>
  <dc:subject/>
  <dc:title>Слайд 1</dc:title>
</cp:coreProperties>
</file>